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7A97-7969-49F0-9790-8C77A39A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1622-1068-42D6-B8C2-B6956564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C334-900C-4322-BC5B-B6ECE1FB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5A4-70D0-4899-9116-8075BDD7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0125-0D04-4CDA-AC17-E58E8F49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05CB-1AFB-4C00-873E-74F58F54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6EB7-1270-4D4D-B45E-2E9EABA6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7D7-F8BC-4741-BB2F-824FF6E8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0AB9-0F34-4C71-947D-CD8BA92F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8E86-8486-48EF-84CC-EEFE1C20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B48-3029-4BD9-B88B-029962E9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0111-12ED-416A-BC25-75DC47E4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c2ff"/>
            </a:gs>
            <a:gs pos="100000">
              <a:srgbClr val="00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FA23-D958-4A63-AE2A-40E0E55213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c2ff"/>
            </a:gs>
            <a:gs pos="100000">
              <a:srgbClr val="00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1\Pictures\КАРТИНКИ\Мои фотографии 102.jpg"/>
          <p:cNvPicPr/>
          <p:nvPr/>
        </p:nvPicPr>
        <p:blipFill>
          <a:blip r:embed="rId1"/>
          <a:srcRect l="0" t="0" r="0" b="1375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2"/>
          <a:stretch/>
        </p:blipFill>
        <p:spPr>
          <a:xfrm>
            <a:off x="1060560" y="-219240"/>
            <a:ext cx="6949800" cy="136548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2200320" y="5334120"/>
            <a:ext cx="6950160" cy="1536480"/>
            <a:chOff x="2200320" y="5334120"/>
            <a:chExt cx="6950160" cy="1536480"/>
          </a:xfrm>
        </p:grpSpPr>
        <p:pic>
          <p:nvPicPr>
            <p:cNvPr id="44" name="Прямоугольник 8" descr=""/>
            <p:cNvPicPr/>
            <p:nvPr/>
          </p:nvPicPr>
          <p:blipFill>
            <a:blip r:embed="rId3"/>
            <a:srcRect l="0" t="66598" r="0" b="0"/>
            <a:stretch/>
          </p:blipFill>
          <p:spPr>
            <a:xfrm>
              <a:off x="2206800" y="6172200"/>
              <a:ext cx="6943680" cy="6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Прямоугольник 8" descr=""/>
            <p:cNvPicPr/>
            <p:nvPr/>
          </p:nvPicPr>
          <p:blipFill>
            <a:blip r:embed="rId4"/>
            <a:srcRect l="0" t="0" r="0" b="59917"/>
            <a:stretch/>
          </p:blipFill>
          <p:spPr>
            <a:xfrm>
              <a:off x="2200320" y="5334120"/>
              <a:ext cx="694368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c2ff"/>
            </a:gs>
            <a:gs pos="100000">
              <a:srgbClr val="00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S63016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S630160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S6301610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S6301611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c2ff"/>
            </a:gs>
            <a:gs pos="100000">
              <a:srgbClr val="00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7"/>
          <p:cNvSpPr txBox="1"/>
          <p:nvPr/>
        </p:nvSpPr>
        <p:spPr>
          <a:xfrm>
            <a:off x="762120" y="2286000"/>
            <a:ext cx="78483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Times New Roman"/>
              </a:rPr>
              <a:t>Кормушка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33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Times New Roman"/>
              </a:rPr>
              <a:t>"Самобранка"</a:t>
            </a:r>
            <a:endParaRPr b="1" lang="en-US" sz="1800" spc="1" strike="noStrike">
              <a:ln w="9360">
                <a:solidFill>
                  <a:srgbClr val="333399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Times New Roman"/>
              <a:ea typeface="Times New Roman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5"/>
          <a:srcRect l="0" t="0" r="0" b="9924"/>
          <a:stretch/>
        </p:blipFill>
        <p:spPr>
          <a:xfrm>
            <a:off x="1440" y="0"/>
            <a:ext cx="9142560" cy="1373040"/>
          </a:xfrm>
          <a:prstGeom prst="rect">
            <a:avLst/>
          </a:prstGeom>
          <a:ln w="28440">
            <a:solidFill>
              <a:srgbClr val="a3c2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c2ff"/>
            </a:gs>
            <a:gs pos="100000">
              <a:srgbClr val="00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ого многофункционального приспособления для корм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х любимцев (кошек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большой период отсутствия хозяев до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Заголовок 1" descr=""/>
          <p:cNvPicPr/>
          <p:nvPr/>
        </p:nvPicPr>
        <p:blipFill>
          <a:blip r:embed="rId1"/>
          <a:srcRect l="22925" t="28194" r="21027" b="19459"/>
          <a:stretch/>
        </p:blipFill>
        <p:spPr>
          <a:xfrm>
            <a:off x="552600" y="2514600"/>
            <a:ext cx="2438280" cy="99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2"/>
          <a:srcRect l="0" t="0" r="0" b="9924"/>
          <a:stretch/>
        </p:blipFill>
        <p:spPr>
          <a:xfrm>
            <a:off x="1440" y="0"/>
            <a:ext cx="9142560" cy="1373040"/>
          </a:xfrm>
          <a:prstGeom prst="rect">
            <a:avLst/>
          </a:prstGeom>
          <a:ln w="28440">
            <a:solidFill>
              <a:srgbClr val="a3c2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c2ff"/>
            </a:gs>
            <a:gs pos="100000">
              <a:srgbClr val="00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828440" y="2971800"/>
            <a:ext cx="533412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мать идею конструк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чертеж проек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ся в выборе материа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ть финансовые затрат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ести чертежи на материа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ть заготов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ть конструкци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испытан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ить идею в виде проек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Заголовок 1" descr=""/>
          <p:cNvPicPr/>
          <p:nvPr/>
        </p:nvPicPr>
        <p:blipFill>
          <a:blip r:embed="rId1"/>
          <a:srcRect l="22876" t="19000" r="23985" b="21500"/>
          <a:stretch/>
        </p:blipFill>
        <p:spPr>
          <a:xfrm>
            <a:off x="1447920" y="1905120"/>
            <a:ext cx="2514600" cy="1066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rcRect l="0" t="0" r="0" b="9924"/>
          <a:stretch/>
        </p:blipFill>
        <p:spPr>
          <a:xfrm>
            <a:off x="1440" y="0"/>
            <a:ext cx="9142560" cy="1373040"/>
          </a:xfrm>
          <a:prstGeom prst="rect">
            <a:avLst/>
          </a:prstGeom>
          <a:ln w="28440">
            <a:solidFill>
              <a:srgbClr val="a3c2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c2ff"/>
            </a:gs>
            <a:gs pos="100000">
              <a:srgbClr val="00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5791320" y="0"/>
            <a:ext cx="3352680" cy="6858000"/>
          </a:xfrm>
          <a:prstGeom prst="rect">
            <a:avLst/>
          </a:prstGeom>
          <a:gradFill rotWithShape="0">
            <a:gsLst>
              <a:gs pos="0">
                <a:srgbClr val="00a800"/>
              </a:gs>
              <a:gs pos="100000">
                <a:srgbClr val="a3c2ff"/>
              </a:gs>
            </a:gsLst>
            <a:lin ang="5400000"/>
          </a:gradFill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200400"/>
            <a:ext cx="46483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итель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Заголовок 1" descr=""/>
          <p:cNvPicPr/>
          <p:nvPr/>
        </p:nvPicPr>
        <p:blipFill>
          <a:blip r:embed="rId1"/>
          <a:srcRect l="6705" t="19739" r="6182" b="14517"/>
          <a:stretch/>
        </p:blipFill>
        <p:spPr>
          <a:xfrm>
            <a:off x="457200" y="1371600"/>
            <a:ext cx="464832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2"/>
          <a:stretch/>
        </p:blipFill>
        <p:spPr>
          <a:xfrm>
            <a:off x="5805360" y="228600"/>
            <a:ext cx="3338640" cy="48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C:\Users\1\Documents\РАБОТА\НОУ   МОУ Богучанская СОШ № 2\МОЁ\КИРИЛЛ\кормушка САМОБРАНКА\DSC00180.JPG"/>
          <p:cNvPicPr/>
          <p:nvPr/>
        </p:nvPicPr>
        <p:blipFill>
          <a:blip r:embed="rId3"/>
          <a:stretch/>
        </p:blipFill>
        <p:spPr>
          <a:xfrm>
            <a:off x="5791320" y="43434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DSC00146"/>
          <p:cNvPicPr/>
          <p:nvPr/>
        </p:nvPicPr>
        <p:blipFill>
          <a:blip r:embed="rId4"/>
          <a:srcRect l="0" t="9090" r="0" b="0"/>
          <a:stretch/>
        </p:blipFill>
        <p:spPr>
          <a:xfrm>
            <a:off x="5791320" y="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C:\Users\1\Documents\РАБОТА\НОУ   МОУ Богучанская СОШ № 2\МОЁ\КИРИЛЛ\кормушка САМОБРАНКА\DSC00176.JPG"/>
          <p:cNvPicPr/>
          <p:nvPr/>
        </p:nvPicPr>
        <p:blipFill>
          <a:blip r:embed="rId5"/>
          <a:stretch/>
        </p:blipFill>
        <p:spPr>
          <a:xfrm>
            <a:off x="5791320" y="182880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c2ff"/>
            </a:gs>
            <a:gs pos="100000">
              <a:srgbClr val="00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5"/>
          <p:cNvSpPr txBox="1"/>
          <p:nvPr/>
        </p:nvSpPr>
        <p:spPr>
          <a:xfrm>
            <a:off x="457200" y="2666880"/>
            <a:ext cx="44956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Спасибо </a:t>
            </a:r>
            <a:endParaRPr b="1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за внимание!</a:t>
            </a:r>
            <a:endParaRPr b="1" lang="en-US" sz="1800" spc="1" strike="noStrike">
              <a:ln w="9360">
                <a:solidFill>
                  <a:srgbClr val="339966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  <p:pic>
        <p:nvPicPr>
          <p:cNvPr id="66" name="Picture 3" descr="C:\Users\1\Documents\РАБОТА\НОУ   МОУ Богучанская СОШ № 2\МОЁ\КИРИЛЛ\кормушка САМОБРАНКА\DSC00182.JPG"/>
          <p:cNvPicPr/>
          <p:nvPr/>
        </p:nvPicPr>
        <p:blipFill>
          <a:blip r:embed="rId1"/>
          <a:stretch/>
        </p:blipFill>
        <p:spPr>
          <a:xfrm>
            <a:off x="4986360" y="469800"/>
            <a:ext cx="368784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1-28T17:55:44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